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4CE-1FC4-4FC3-99D4-CEF99788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E90-03CA-4050-BA0A-ED7B7E7C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8C1-243A-4293-8853-7902364C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D25-3845-4E84-8128-52CEACEA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0FF-06C4-467C-895F-3F50B1B8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651-C5A6-436C-8AA7-EEE2AA03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AEB-CEF6-4AA3-A374-784911EA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B9B-36B0-4CB0-A3B0-FA87B877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34A-35FC-403F-94F8-A14D13D1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5D1-0EF8-4C1B-AEFE-60B2E239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639-D6FC-448E-AB5B-5B8CF75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A3F-56EC-493D-9BEC-A5976E47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671E-5131-4A04-B1ED-678022368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aamat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600200"/>
            <a:ext cx="7086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Estimating Sums and Differenc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of Decim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400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use estimation for getting an approximate value for multiplying, dividing, adding, and subtracting. Another kind of estimation is front-end estimation. How to front end estimation is on the nex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53352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y Do You Use Estimation?</a:t>
            </a:r>
            <a:endParaRPr b="0" lang="en-US" sz="1800" spc="1" strike="noStrike">
              <a:ln w="0">
                <a:noFill/>
              </a:ln>
              <a:solidFill>
                <a:srgbClr val="33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457200"/>
            <a:ext cx="793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to do Front End Estim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d or subtract the first two dig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d or subtract the next two digits in the next place valu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 not do anything with the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38280" y="3657600"/>
            <a:ext cx="30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8120" y="3657600"/>
            <a:ext cx="30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657600" y="3657600"/>
            <a:ext cx="457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18148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4495680"/>
            <a:ext cx="380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9920" y="3657600"/>
            <a:ext cx="30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29400" y="3657600"/>
            <a:ext cx="30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8880" y="3657600"/>
            <a:ext cx="457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18148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486400" y="4495680"/>
            <a:ext cx="380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38280" y="5257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705720" y="52578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5880" y="5257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n you have an approximate value of what you would have gotten with the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8600" y="1676520"/>
            <a:ext cx="7632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8098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7640" y="2133720"/>
            <a:ext cx="114300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590920"/>
            <a:ext cx="6781680" cy="990360"/>
          </a:xfrm>
          <a:prstGeom prst="line">
            <a:avLst/>
          </a:prstGeom>
          <a:ln w="7632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3505320"/>
            <a:ext cx="685800" cy="152388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21472200">
            <a:off x="1066680" y="380880"/>
            <a:ext cx="67057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ope This Hel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09880"/>
            <a:ext cx="8077320" cy="916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is isn’t enough this website might give you a little bit more. Just click on this link right her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aaamat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 There are lots of math topics if you just don’t want front end estim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3:56:19Z</dcterms:created>
  <dc:creator>Kids</dc:creator>
  <dc:description/>
  <dc:language>en-US</dc:language>
  <cp:lastModifiedBy>Kids</cp:lastModifiedBy>
  <dcterms:modified xsi:type="dcterms:W3CDTF">2008-10-17T01:01:48Z</dcterms:modified>
  <cp:revision>3</cp:revision>
  <dc:subject/>
  <dc:title>Slide 1</dc:title>
</cp:coreProperties>
</file>